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DA5-6E6F-4E9D-9ED7-10F2BA0B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ADD-8EB3-4292-9038-B2667A0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D02-684D-48A5-B1FC-C5323991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D74-1CC6-4FAF-966A-F878B1E6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A00-470F-4363-996F-70E8BBF7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BCD-D763-4597-939E-8AD87AE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ADB-2329-408C-A0E9-4544429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D71-0E6F-4487-90A8-9DFCC55A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0AA-32B2-4C30-B782-248E8CAB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9A1-A858-4A5E-B4BE-20DF846D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FE9-C564-4107-A878-FD58489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AFA-046A-471A-B9C9-C6294D5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3FC-CC7F-44CF-A255-30E0023E3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ntisorg.com/" TargetMode="External"/><Relationship Id="rId2" Type="http://schemas.openxmlformats.org/officeDocument/2006/relationships/hyperlink" Target="http://www.otispregnancy.org/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ардиоваскуларни лекови у трудноћи 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чење артеријске хипертензије у посебним гру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чење хипертензивне кр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атки мишићи бубрежне карлице и уретре су релаксирани па су бубрежна карлица и уретра дилатиране. Бибрези се повећавају у дужину 1-1,5 цм док уретра постаје дужа, шира и више закривљена, па је волумен резидуалног урина повећ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лаксација мишића бешике повећава капацитет и ризик од уринарних инфекција ренални крвни проток и гломеруларна филтрац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а 50%. Истовремено се ↑ клиренс креатинина и ↓ уреа у серу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д половине трудноћа, оштећена тубуларна ресорпција глукозе заједно са ↑ гломеруларне филтрације изазива гликозурију. Не очекује се губитак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иво ренина и алдостерона ↑ што изазива ретенцију соли и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црвених крвних зрнаца се ↑, али свега за 1/3 плазма волумена што за последицу има ↓ хемоглобина већ при крају друг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белих крвних зрнаца повећан, узрок непоз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 неколико фактора згушњавања крви и фибриногена је повећан, док се фибринолитичка активност смањ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активност протеина Ц и С се постепено смању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умска алкална фосфатаза (плацентног порекла) повишена је, док се серумски албумин смањује са малим смањењем серумских глобулина. Ово доводи до промене у пропорцији албумин:глобу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физа: ↓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SH/L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ATCH, TS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аноцитни хормон и пролак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дбубрежна жлезда: ↑ стероида, ↑ алдостерона и декортикосте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роидна жлезда: жлезда се увећава услед  ↓ јода у плазми, ↑ Т3 и Т4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орма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може се развити инсулинска резистенција која може прерасти у дијабет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 система ренин-ангиотензин, али се не одражава на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емодинамске промене током нормалне трудноће, порођаја и постпорођајног пери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ремина крв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чана фреквен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вни притиса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стемска васкуларна резист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28760" y="500040"/>
          <a:ext cx="8229600" cy="5953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модинамски параме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м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нормалне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постпорођајног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емина к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 удара/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т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% iznad normalnih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атних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очетку услед ↑ 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load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om  ↓ sa diurez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m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ар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местар; благо ↓ током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00-500 сс по контракциј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ска васкуларна резис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труд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2920" y="1357200"/>
          <a:ext cx="8786880" cy="5394600"/>
        </p:xfrm>
        <a:graphic>
          <a:graphicData uri="http://schemas.openxmlformats.org/drawingml/2006/table">
            <a:tbl>
              <a:tblPr/>
              <a:tblGrid>
                <a:gridCol w="2000160"/>
                <a:gridCol w="67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естерона у плазми → ↓ интестинални мотилитет →↑ време пражњења желуца и црева за 3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удачне киселине и секреије доводи до ↑ желудачне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nog volumena i udisajnog protoka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ulmonarnu resorpciju le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ерећење волуменом за 50% може изменити волумен дистрибуције лека; укупно средње повећање воде у телу мајке је 8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40% - ткиво мајке, 60% плацента, фетус и амнионска течно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ј расположивих рецептора (рецептори су заузети стероидним и плацентним хормон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албуминемија, ↓ везивање прот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не у нивоу ендогених супстанци могу изазвати ↑ и ↓ елиминацију лекова путем јетре (индукција или инхибиција микрозомалних ензима јетр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ални проток плазме ↑ за 25-50% →гломеруларна филтрација  ↑ за 50% → бубрежна елиминација лека 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фе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2920" y="928800"/>
          <a:ext cx="8786880" cy="5668920"/>
        </p:xfrm>
        <a:graphic>
          <a:graphicData uri="http://schemas.openxmlformats.org/drawingml/2006/table">
            <a:tbl>
              <a:tblPr/>
              <a:tblGrid>
                <a:gridCol w="1785960"/>
                <a:gridCol w="700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 слободни (невезани) лекови могу прећи плацент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јонизовани молекули, као и молекули веома растворљиви у липидима пролазе биолошке мембране много брже од јонизованих молекула нерастворљивих у липи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јчинска и фетална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је важна детерминанта за трансфер кроз плаценту нарочито за слабо киселе и базне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вина феталне циркулације (умбиликална вена) директно снабдева срце и мозак заобилазећи је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инитет лекова за феталне протеине плазме може бити смањен (ампицилин) или повећан 8салицилати) у односу на протеине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 лекова код фетуса подразумева повратак лека дифузијом у циркулацију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а истраживања су показала да су фетус и плацента способни да сами метаболишу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ћина лекова се елиминише у амнионску течност с обзиром на то да се бубрези фетуса налазе у фази сазре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а пит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је узимање лека неопходно, имајући у виду тежину обољења и значај терапије за здравље и живот мај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лек може деловати штетно на развој фету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нека фармакодинамијска дејства лекова утичу на ток трудноће и порођај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 физиолошке промене у организму мајке током трудноће утичу на фармакокинетику и следствено томе, на дозирање изабраног ле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ј адренергичке стимулације и блокаде на физиологију трудница и фе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1371600"/>
                <a:gridCol w="1371600"/>
                <a:gridCol w="13716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им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ија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ћана фреквенција труд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биликални крвни про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ст миометр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е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лаз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агонисти калцијумских кан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гнезијум-сулф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 есенцијална ху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фа-метил-до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естациона 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liberandum est saepe, statuendum sem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rum omnium magister us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алвуларне болести ср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стеноза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брилација или тахиарит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гокс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регургитација и аортна регург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п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омбоза дубоких вена и плућна ембо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фарин контраиндикован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hondrodysplasia puncta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чка атрофија фетуса, ментална ретардациј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омолекуларни хепа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Calibri"/>
              </a:rPr>
              <a:t>Фолна киселина у дози мањој од 0,5</a:t>
            </a:r>
            <a:r>
              <a:rPr b="1" lang="sr-Latn-CS" sz="3200" spc="-1" strike="noStrike">
                <a:solidFill>
                  <a:srgbClr val="c00000"/>
                </a:solidFill>
                <a:latin typeface="Calibri"/>
              </a:rPr>
              <a:t>m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фа-метил-до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д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ота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ндапа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оглице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лори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алт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окс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адро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ев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лопидогр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к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рофиб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434880"/>
          <a:ext cx="8229600" cy="5851800"/>
        </p:xfrm>
        <a:graphic>
          <a:graphicData uri="http://schemas.openxmlformats.org/drawingml/2006/table">
            <a:tbl>
              <a:tblPr/>
              <a:tblGrid>
                <a:gridCol w="1371600"/>
                <a:gridCol w="188604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-метил-д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атиколитик, антихипертензив првог избор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гућ поремећај сна; смањење обима главе без пратећих неуролошких секвела и менталне ретардације; могућа хипотензија прва два дана жив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дока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, локални анесте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ије на животињама и људим показале су да нема тератогено ни токсично дејство; велике дозе могу изазвати депресију респирације код неонатуса; парацервикална и епидурална анестезија  може бити узрок хипотоније и брадикардије неона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а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блокатор, антиаритмик, антихипертен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14200"/>
          <a:ext cx="8229600" cy="62182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апа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сличан тиазидним диуретиц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оглице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ема феталних оштећења; могућа је хипотензија, фетална брадикардија; делује токолитички и релаксан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штеди кал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забележено тератогено дејство; описана хипоспадија ако се користи током првог триместра и блага ретардација раста ако се примењује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т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оксип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ропар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ви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 мале молекулске теж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љених ни тератогених дејстава; може се рутински примењивати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1596960"/>
          <a:ext cx="8229600" cy="34750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пидогр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лјених ни тератогених дејстава; примећена је токсичност тиклодипина код животиња, нема података за хуману трудно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к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рофиб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кс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Урапид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е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l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бциксима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тепл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уметран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уросе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ил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тилеф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п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бут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пинефрин (адренал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Гемфиброз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профиб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зетим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аеритритил тетра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зосорбид 5-моно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олсидо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окси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ксиле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афено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ра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е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етакс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ис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ебив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рведи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фе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м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зол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ен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ац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еркан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ерапам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лтиаз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zmisliti treba više puta, odlučiti jedamp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a je učitelj svem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1280" y="71280"/>
          <a:ext cx="9001440" cy="6786720"/>
        </p:xfrm>
        <a:graphic>
          <a:graphicData uri="http://schemas.openxmlformats.org/drawingml/2006/table">
            <a:tbl>
              <a:tblPr/>
              <a:tblGrid>
                <a:gridCol w="1609920"/>
                <a:gridCol w="2031840"/>
                <a:gridCol w="4262400"/>
                <a:gridCol w="1097280"/>
              </a:tblGrid>
              <a:tr h="129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с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пид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лф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тератогени код експерименталних животиња; при великим дозама телесна тежина на рођењу је смањена; нису примећ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подаци о вези између кардиолошких дефеката и примене лека у првом триместру; повећана инциденца спонтаних побачаја, мртворођених; код трудница крварење и остеоп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 у дози &l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е дозе $0-150 мг/дан) не представљају ризик за фетус, код трудница могућа анемија, хеморагија, вертиго, тинитус, главобоље, хипервентилација, продужено трајање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циксима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поручује се примена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434880"/>
          <a:ext cx="8229600" cy="5765760"/>
        </p:xfrm>
        <a:graphic>
          <a:graphicData uri="http://schemas.openxmlformats.org/drawingml/2006/table">
            <a:tbl>
              <a:tblPr/>
              <a:tblGrid>
                <a:gridCol w="1371600"/>
                <a:gridCol w="2028960"/>
                <a:gridCol w="371448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ки-н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еп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ли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пријављ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-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мета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ци Хенлеове пет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бриоцидни у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росе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на производља урина код фетуса – користи се за процену бубрежне функције; могућа веза са појавом хипоспад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ил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зиди дигит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а тежина на рођењу, превремени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фибро-з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профи-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брати, хиполипем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токсичан; људи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rre-Robi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ov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дром и абнормалности можданих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434880"/>
          <a:ext cx="8229600" cy="59436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илеф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тропни ле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е повећати утероплацентну перфузију, релаксацију утеруса; не треба га користи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смањена утероплацентална перфузија; лјуди – нема одговарајућих студија, фетална и неонатална нежељена дејства нису пријав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у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није тератог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пинефрин (адренали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контрадикторне информације о мањим и већим конгениталним малформацијама током првог триместра; повећана инциденца ингвиналне хер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14200" y="434880"/>
          <a:ext cx="8715600" cy="5673960"/>
        </p:xfrm>
        <a:graphic>
          <a:graphicData uri="http://schemas.openxmlformats.org/drawingml/2006/table">
            <a:tbl>
              <a:tblPr/>
              <a:tblGrid>
                <a:gridCol w="1559160"/>
                <a:gridCol w="1890720"/>
                <a:gridCol w="4086000"/>
                <a:gridCol w="11797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зетим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липе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одговарајућ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аери-три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-ди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 5-моно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, органски нит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ембриотоксичан, фетотоксичан; људи – фетална оштећења, хипертензиј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сидо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оксифи-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, перифе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има канцерогени потенцијал; људи постоје подаци о КВС дефектима,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a bifid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285840"/>
          <a:ext cx="8229600" cy="640080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ксиле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; људи – ограничени подаци, није забележено оштећење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фен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али је ембриотоксичан; људи – ограничени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ра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е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кс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с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ив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веди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бет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у великим дозама је ембриотоксичан; људи – у другом и трећем триместру у великим дозама може изазвати ретардацију раста, феталну брадикардију, хипогликемију, хипокалцемију праћену конвулзијама, полицитемију, хипербилирубинемију, тромбоцитопенију, респираторну депресију, продужено трајање порођаја и малу тежину на рођењ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1280" y="71280"/>
          <a:ext cx="9001440" cy="6683400"/>
        </p:xfrm>
        <a:graphic>
          <a:graphicData uri="http://schemas.openxmlformats.org/drawingml/2006/table">
            <a:tbl>
              <a:tblPr/>
              <a:tblGrid>
                <a:gridCol w="1845000"/>
                <a:gridCol w="1083960"/>
                <a:gridCol w="4853160"/>
                <a:gridCol w="12193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-ри калцију-мских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ембриотоксичан; људи не постоје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фе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ембриотоксичан; људи – КВС дефекти праћени ретардацијом раста (други-трећи триместа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ол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ен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ц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ркан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нема одговарајућих контролисаних клиничк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апам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људи – комплетни срчани блок и смрт фетуса у комбинацији са дигоксином; код мајке може изазвати хипотензију праћену феталном хипокс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лтиаз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КВС дефек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ода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g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пиронолак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идрохлорт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сар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лсарт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пт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ал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зин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ридон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ами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вин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лаз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осинопр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1280" y="71280"/>
          <a:ext cx="9001440" cy="6715440"/>
        </p:xfrm>
        <a:graphic>
          <a:graphicData uri="http://schemas.openxmlformats.org/drawingml/2006/table">
            <a:tbl>
              <a:tblPr/>
              <a:tblGrid>
                <a:gridCol w="1500480"/>
                <a:gridCol w="1714320"/>
                <a:gridCol w="4567320"/>
                <a:gridCol w="1219320"/>
              </a:tblGrid>
              <a:tr h="1230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ода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ардација раста, превремени порођај, конгенитални хипотиреоидизам, струма, пролазна фетална брадикардија са продужени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, пуна доза, &g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а доза у трећем триместру изазива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лућну хипертензију, ретардацију раста, перинатално крварење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онолак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 који штеди калијум, антагонист алдосте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индикован током трудноће због антиандрогеног ефекта на фе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дрохлор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гликемија, неонатална тромбоцитопенија и хемолитичка анемија, фетална брадикардија, фетална смрт, неонатална хипотонија и хипонатремија; код трудница – хипотензија, хипокалиемија, делују на утерус и онемогућавају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434880"/>
          <a:ext cx="8229600" cy="556596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50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т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ал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з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дон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ми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ин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аз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с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ретардација раста, превремени порођај,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онатална хипотензија, ренална инсуфицијенција, анемија, абнормалности мишићно-скелетног система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агонисти рецептора за ангиотензин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sični i teratogeni kod životinja; treba ih izbegavati u trudn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рф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ценокумар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им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лу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орвастат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ошлом веку за многа медицинска стања сматрало се да представљају контраиндикацију за трудноћ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реци у акушерству, неонатологији, акушерској анестезиологији и општој медицинској струци повећали су шансу за успешан исход трудноће, како за мајку тако и за фету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171440"/>
          <a:ext cx="8229600" cy="41148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ф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варфаринска ембриопатија, фетална хеморагија, поремећаји формирања костију, абнормалност Ц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лу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ор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MG Co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укта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тогени и токсични потенцијал испоњен у студијама на животињама; не постоје подаци о примени лека код љу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е </a:t>
            </a:r>
            <a:r>
              <a:rPr b="0" i="1" lang="sr-Latn-CS" sz="44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анице интер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tisorg.co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ispregnancy.org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рофија миокарда леве ком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имптоматска атеросклер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кроалбумину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ају ранијег можданог у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и антихипертенз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ју ранијег инфаркта миокар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гина пектор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ча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агонисти алдосте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Количина лека која долази до фетуса </a:t>
            </a:r>
            <a:br>
              <a:rPr sz="3600"/>
            </a:br>
            <a:r>
              <a:rPr b="0" i="1" lang="sr-Latn-RS" sz="3600" spc="-1" strike="noStrike">
                <a:solidFill>
                  <a:srgbClr val="000000"/>
                </a:solidFill>
                <a:latin typeface="Calibri"/>
              </a:rPr>
              <a:t>in utero</a:t>
            </a: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естацијск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лекулска тежина 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 чија је молекулска тежина &lt;400 Далтона, пролазе брже од високо нејонизованих и липофилних лекова; већина лекова 250-400 Далто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пен везиванја за протеине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ок крви кроз мајчин организам и фе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положива површина плаценте преко које се врши размена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чка актив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тријална фибрил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хидродипириди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/протеину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 Хенлеове пет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ортна сте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т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гестивна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ша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, ментална обо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ијабетес, пре-дијабе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сулинска резист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и лип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е промене у нормалној труд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их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острана стеноза бубрежних арте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ериферне артеријск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посебним груп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деце и адолесц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старих 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труд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кутног хипертензивног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не већа од 10-15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вредности дијастолног притиска до 110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Hg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ериоду од једног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није препоруке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од 20-25% у периоду од једне минуте  до једног часа, односно смањење до вредности 160/100-11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наредних два до шест ча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начајна редукција средњег артеријског притиска непожељ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н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ебр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онар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ЦЕ инхиби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еналаприла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топри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алаприлат 1,25-5,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каптоприл 12,5-2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бубрежна 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шка акутна хипертензија – хитно снижење артеријског прити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(артеријски и венски дилатато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атријум-нитро-прусид,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3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μg/kg/min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жљив мониторин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посре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наузеја, повраћање, цијанидна токсич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троглицер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-1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-15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а, повраћ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 + тахикард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ета и алфа блокатори;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лабеталол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смо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: ударна доза 2-1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,5-30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зеја, повраћање, поремећаји спровођења, бронхоспа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нутни волумен ↑ за 30-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рчана фреквенца ↑ за 1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дарни волумен ↑ за 25-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јастолни крвни притисак ↓ за 5-10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ком 12-26 недеље, а онда се полако нормализује до 36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нски притисак ↑ у каснијем периоду трудноће, па су вене проширене нарочито у ног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ериферни отпор ↓ ~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лумен плазме се у просеку ↑ за 50% до 30 недеље да би омогућио додатни проток крви до утеруса, исхрану и оксигенацију фетуса. Ово омогућава ↑ перфузију коже која уклања прекомерно грејање – последица је ↑ метаболизма као и ↑ гломеруларне филтрације. ↑ волумена компезује губитак крви током порођаја (обично 500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оток крви у бубрезима, кожи и мук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без кардиолошких компл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локатор калцијумских кан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кардипин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10 mg/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4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, црвени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лигна хипертензија + лоша бубрежна фун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гонист допамин1 рецептора (директни вазодолататор и вазодилататор реналних артерија са натриуретским деловањ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олдо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2-0,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/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0-1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феохромоц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ериферни ватодилататори; алфа и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толам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толамин 1-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пиларна дилатација изазива хиперемију горњих партија респираторног тракта што може ометати дисањ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дисајни волумен и степен вентилације повећавају за 20% потрошњу кисео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и постају сунђерасте, трошне и склоне крвар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 код трудница је последица релаксације доњег езофагеалног сфинктера и смањене езофагеалне перистал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лудачна секреција је обично ↓ али може бити и ↑ током прв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стинални мотилитет је ↓ што омогућава повећану ресорпциј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чна кеса постаје хипотонична – смањено пражњење. Згушавање жучи омогућава формирање жучних каменч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5-09-29T06:26:43Z</dcterms:modified>
  <cp:revision>6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